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13AA-66C5-415B-9FB5-CA13135E5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D007-F48A-4A5D-86EC-E9B89D2E6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290-2620-4E7C-81A2-29F25DD1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0DC-36DA-40A1-8B28-CD03D955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0AC-9B13-4340-9F9A-868639A8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021-0407-4839-92F0-758DC63B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E05-C095-4A3F-9F91-44316757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10E-A369-47D1-A414-F57D18C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03D-7A26-4A36-A4A8-C4CAE073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100-0425-4B26-98E3-9B97E3CB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093-72B1-4759-8BE3-A3A0CAB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BEA-ADFA-41CF-8926-7098414B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5F1-5A33-44CD-83D6-D888F5A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907-7D51-43F0-83C3-24FB6200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1332-36E8-46A1-A298-F28974CE4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0665-F0C1-4C50-8596-715C9C559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25440" y="2022480"/>
            <a:ext cx="7709040" cy="2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enatal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graphicFrame>
        <p:nvGraphicFramePr>
          <p:cNvPr id="52" name=""/>
          <p:cNvGraphicFramePr/>
          <p:nvPr/>
        </p:nvGraphicFramePr>
        <p:xfrm>
          <a:off x="1015920" y="3978360"/>
          <a:ext cx="8128080" cy="2498760"/>
        </p:xfrm>
        <a:graphic>
          <a:graphicData uri="http://schemas.openxmlformats.org/drawingml/2006/table">
            <a:tbl>
              <a:tblPr/>
              <a:tblGrid>
                <a:gridCol w="4064040"/>
                <a:gridCol w="4064040"/>
              </a:tblGrid>
              <a:tr h="112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Nurain Mohd. No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Endocrinolog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 Putraja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or Dr. Imelda Balch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Maternal Fetal Medic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i Mala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Ranjit Singh Dhalliw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tetrician &amp; Gynaecolog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 Amp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. Nazatul Syima Idrus</a:t>
                      </a:r>
                      <a:br>
                        <a:rPr sz="18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macist &amp; Principal Assistant Director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maceutical Services Di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y of Health Malays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71F8-E937-4B73-900B-2B9739F02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400" spc="-1" strike="noStrike">
                <a:solidFill>
                  <a:srgbClr val="000000"/>
                </a:solidFill>
                <a:latin typeface="Arial"/>
                <a:ea typeface="Arial"/>
              </a:rPr>
              <a:t>Human insu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4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lin treatme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E931-4F5A-4064-B23F-F71E3958C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Blood glucose targets are not met after MNT and metformin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is contraindicated or unaccep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FPG ≥7.0 mmol/L at diagnosis (with or without metform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FPG of 6.0-6.9 mmol/L with complications such as macrosomia or polyhydramnios (start insulin immediately, with or without metformin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ons for insulin initi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F2C7-BDDA-44B8-B438-7CA50B2A2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Both short acting (regular) and intermediate or long acting (NPH) have been established in diabetes pregnanc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Human insulin was labelled as FDA pregnancy category 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 the local setting, human insulin is the preferred choice of insulin in view of its cost and availabi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 Insul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26D3-78B7-4698-843F-7C05A27B6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s mimic natural insulin physiolog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Rapid and long acting (basal) - currently used in pre-existing diabetes during pregnancy and GD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FDA pregnancy categ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Category B for Insulin lispro and as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Category C for Insulin glulisine and glar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lin Analogue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2"/>
          <p:cNvSpPr/>
          <p:nvPr/>
        </p:nvSpPr>
        <p:spPr>
          <a:xfrm>
            <a:off x="0" y="582768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0240" indent="-1200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</a:rPr>
              <a:t>Category B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</a:rPr>
              <a:t>: Animal studies have failed to demonstrate a risk to the fetus and there are no adequate and well-controlled studies in pregnant wom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00240" indent="-1200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</a:rPr>
              <a:t>Category C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</a:rPr>
              <a:t>: Animal studies have shown an adverse effect on the fetus and adequate and well-controlled studies in humans were not avail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A025-3137-4FEC-AB25-8603505FA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Both rapid- and long-acting (basal) - as efficacious as human insulin in pre-existing diabetes and G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s are associated with fewer incidences of hypoglycaem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Long-acting analogues have benefit in diabetic pregnant women with repeated nocturnal hypoglycaem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ll insulin are considered safe and have low risk in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410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Except for insulin glulisine and glargine -  should be given only when potential benefit outweigh the potential r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lin Analogue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1F9C-A1EA-48A5-A1CC-87642E37C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2809800"/>
          <a:ext cx="5722920" cy="909720"/>
        </p:xfrm>
        <a:graphic>
          <a:graphicData uri="http://schemas.openxmlformats.org/drawingml/2006/table">
            <a:tbl>
              <a:tblPr/>
              <a:tblGrid>
                <a:gridCol w="5722920"/>
              </a:tblGrid>
              <a:tr h="90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s of Insul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1"/>
          <a:srcRect l="0" t="872" r="3306" b="0"/>
          <a:stretch/>
        </p:blipFill>
        <p:spPr>
          <a:xfrm>
            <a:off x="5257800" y="-162000"/>
            <a:ext cx="6981840" cy="72741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8103-6C32-417D-A69B-B12279C96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ulin initiation - after MNT and metformin failed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1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44440" y="1812960"/>
            <a:ext cx="11847600" cy="32716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56A-CE91-4647-ADCA-D86E72169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glucose targ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1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0680" y="2309760"/>
            <a:ext cx="11720520" cy="226224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8341-A4E3-4791-AA2D-F9E65AFB3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sulin therapy can be initiated at outpatient setting in pregnant women with diab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he preferred choice of insulin regime in diabetes in pregnancy is multiple daily inj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s should be continued during pregnancy in women with pre-existing diabetes who are already on the treatment and have established good blood glucose control before pregna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apid-acting insulin analogue may be considered as an option, particularly in patients with frequent hypoglycaemia or post-prandial hyperglycaemia using human insulin during pregnan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2DB-8D2B-49B4-891C-204722917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al antidiabetic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uli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ypes of insu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initi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le of insulin analo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5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2EBC-1E1D-44D4-BB14-0B016C85B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lusio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is safe and recommended after failed 1 - 2 weeks of M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sulin is indicated to achieve glycaemic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sulin can be initiated as outpatient with self-ti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sulin analogues are beneficial to reduce hypoglyca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6CF0-7951-4FFA-B54A-BF5BABCF6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FER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4D41-D8E6-4497-A326-DF930D679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ral to secondary/tertiary ca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hy ref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For continuous specialist care to detect complications, review medications and optimise glycaemic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ho should be refer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ll women with pre-existing diabe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omen with GDM who have poor glycaemic control and fetal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ferral to a dietitian to ensure balanced diet and achievement of good glycaemic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734A-B41D-42C2-ACCD-4813F9525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pre-existing diabetes and women with GDM who have poor glycaemic control or fetal complications should be referred to secondary or tertiary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530-2F67-46E9-B530-0E0CFB322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-ECLAMPSIA PROPHYLAX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310A-E12B-4BE1-99D5-DC225E893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eclampsia Prophylaxis</a:t>
                      </a:r>
                      <a:r>
                        <a:rPr b="1" lang="en-MY" sz="4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pre-existing diabetes have a </a:t>
            </a:r>
            <a:r>
              <a:rPr b="1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five-fold increased risk of pre-eclampsia </a:t>
            </a: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(OR=5.74, CI 95% 5.31 to 6.20) compared to women without diabetes.</a:t>
            </a:r>
            <a:r>
              <a:rPr b="0" lang="en-MY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240" y="6273720"/>
            <a:ext cx="1219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53. Persson M, Cnattingius S, Wikström AK, et al. Maternal overweight and obesity </a:t>
            </a:r>
            <a:r>
              <a:rPr b="0" lang="en-MY" sz="1600" spc="-1" strike="noStrike">
                <a:solidFill>
                  <a:srgbClr val="000000"/>
                </a:solidFill>
                <a:latin typeface="Arial Narrow"/>
              </a:rPr>
              <a:t>and risk of pre-eclampsia in women with type 1 diabetes or type 2 diabetes.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iabetologia. 2016;59(10):2099-210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7BFE-0094-4858-B582-847FF4F80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eclampsia Prophylaxis</a:t>
                      </a:r>
                      <a:r>
                        <a:rPr b="1" lang="en-MY" sz="4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 large RCT on women with pre-existing diabetes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low dose aspirin (60 mg) is safe but did not reduce the risk of pre-eclamp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 3 multicentre RCTs on women with pre-existing diabetes, supplementation of vitamin C and E did not reduce the risk of preeclampsia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no evidence to support the use of calcium supplementation in diabetes in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E33E-9FE6-4926-A08F-722A0EF1E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Low dose aspirin (75 - 150 mg daily) should be given to prevent pre-eclampsia in women with pre-existing diabetes from 12 weeks of gestation until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Vitamin C and E supplementation should not be given to prevent pre-eclampsia in women with diab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8E71-AADB-4BD1-9E80-DDEEC1192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SESSMENT OF DIABETES COM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A25F-1D31-42DE-B0DA-51370EE42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inal Assessmen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 txBox="1"/>
          <p:nvPr/>
        </p:nvSpPr>
        <p:spPr>
          <a:xfrm>
            <a:off x="267840" y="1117440"/>
            <a:ext cx="1157148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NICE Guide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pre-existing diabetes should receive retinal assessment at bo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f normal, repeat at 28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If abnormal, refer to ophthalm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a population-based study on pre-existing diabetes, significant factors associated with progression of retinopathy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higher systolic blood pressure during bo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higher HbA1c at first trimester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greater drop of HbA1c between first and third trimester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6276960"/>
            <a:ext cx="12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 Narrow"/>
              </a:rPr>
              <a:t>64. Egan AM, McVicker L, Heerey A, et al. Diabetic retinopathy in pregnancy: a population-based study of women with pregestational diabetes. J Diabetes Res.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015;2015:3102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CEC9-BF75-4410-982C-8E157C0CC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RAL ANTIDIABETIC AG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33F-C2F0-4EB7-9D0A-61CEE0062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nal Assessmen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f renal assessment has not been done in the preceding 3 months in women with pre-existing diabetes, arrange it during the first antenatal vis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ferral to a nephrologist should be considered when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erum creatinine is abnormal (120 μmol/L or more); est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glomerular filtration rate should not be used during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he urinary albumin: creatinine ratio (ACR) &gt;30 mg/m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otal protein excretion exceeds 0.5 g/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6291360"/>
            <a:ext cx="12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 Narrow"/>
              </a:rPr>
              <a:t>6. National Collaborating Centre for Women’s and Children’s Health (UK). Diabetes in pregnancy: management of diabetes and its complications from 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AB8E-2F6C-40C1-8F49-05AE19B4E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 women with pre-existing diabet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retinal assessment should be performed at booking and repeated at least once throughout the pregna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renal assessment should be performed at booking; those with pre-existing renal disease should be managed in a combined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A14B-C65C-4839-8D8B-B6A1CECAC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ETAL SURVEILL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9972-1BF7-4ACF-955B-047781E5C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tal Surveillanc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847880" y="1219320"/>
            <a:ext cx="9110520" cy="5289480"/>
          </a:xfrm>
          <a:prstGeom prst="rect">
            <a:avLst/>
          </a:prstGeom>
          <a:ln w="0">
            <a:noFill/>
          </a:ln>
        </p:spPr>
      </p:pic>
      <p:sp>
        <p:nvSpPr>
          <p:cNvPr id="17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AF6-6A57-4305-86F9-D44325BED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pre-existing diabetes should be offered ultrasound scan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11-14 weeks of gestation for dating and assessment of major structural mal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18-20 weeks of gestation for detailed structural anatomy scan (by a trained specialist or sonograp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pregnant women with pre-existing diabetes and gestational diabetes mellitus, serial growth scan should be performed every four weeks from 28 to 36 weeks of ge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9B68-1C29-43C4-85A3-F14A08BB9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IMING AND MODE OF DELI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453A-248F-44BB-8544-4CB78CCA3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ming and Mode of Delive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 2 systematic reviews on GDM and pre-existing T2DM requiring insulin, active IOL at 38 weeks gestation vs expectant management until 42 wee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571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Reduced the risk of macroso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571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No significant increase in rates of caesarean section, shoulder dystocia, neonatal hypoglycaemia or perinatal death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90A9-E11D-46CF-8AA4-C0011E460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49280" y="1347840"/>
          <a:ext cx="11390400" cy="5002200"/>
        </p:xfrm>
        <a:graphic>
          <a:graphicData uri="http://schemas.openxmlformats.org/drawingml/2006/table">
            <a:tbl>
              <a:tblPr/>
              <a:tblGrid>
                <a:gridCol w="2297160"/>
                <a:gridCol w="4922640"/>
                <a:gridCol w="4170600"/>
              </a:tblGrid>
              <a:tr h="712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9889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existing diabe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co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37+0 and 38+6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maternal or fetal co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37+0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iet alone with no co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40+0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oral antidiabetic agents or insu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37+0 and 38+6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6840" indent="-968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maternal or fetal compl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604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37+0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0F82-4C66-4538-B0AF-04FB9FA48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ommendation 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ode of delivery should be individualised, taking into consideration the estimated fetal weight and obstetric fac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Women with diabetes who receive antenatal corticosteroids for fetal lung maturation should have close moni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7014-9E34-4043-907D-2D68324AD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1D81-B19E-47C6-8B7A-A30067F4B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75760" y="108720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formin and glibenclamide have been used in G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Pregnancy Categ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B for Metfor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C for Glibenclami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DM, start  metforminif blood glucose targets are not met after diet and exercise within 1-2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metformin in women who are already on treatment before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0" y="582768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0240" indent="-1200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</a:rPr>
              <a:t>Category B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</a:rPr>
              <a:t>: Animal studies have failed to demonstrate a risk to the fetus and there are no adequate and well-controlled studies in pregnant wom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00240" indent="-1200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</a:rPr>
              <a:t>Category C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</a:rPr>
              <a:t>: Animal studies have shown an adverse effect on the fetus and adequate and well-controlled studies in humans were not avail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19C9-A704-49D1-B213-7A41017E8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2760" y="1282320"/>
            <a:ext cx="115711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 a meta-analysis, metformin vs glibenclamide show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etformin had significantly lower maternal weight gain, neonatal birth weight, macrosomia and L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no significant difference in glycaemic control (FPG and post-prandial plasma glucose), caesarean section, preterm birth, stillbirth and neonatal hypoglycaem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6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F9A4-279F-4524-B863-00BCC4847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Four meta-analyses on GDM show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OAD vs insul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no significant difference in glycaemic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vs insul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associated with less maternal weight gain but higher premature birth (&lt;37 weeks ges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71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3AA2-4C46-4886-99F8-A981E37AE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Glibenclamide vs insulin, glibenclamide was found to be associated wit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571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less maternal hypoglycaemia but higher maternal weight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23920" indent="-5713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higher macrosomia, neonatal birth weight and neonatal hypoglycaemia for neonatal out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75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97CC-C56C-4618-8935-4AEA2F446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1680" y="25560"/>
          <a:ext cx="12060360" cy="107784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77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 antidiabetic agents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7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22320" y="2084400"/>
            <a:ext cx="1212228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F5C-C805-4043-B3F6-0BD239EC6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n GDM, metformin should be offered when blood glucose targets are not met using changes in diet and exercise within 1-2 wee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It should be prescribed after consultation with speciali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Metformin should be continued in women who are already on the treatment before pregnanc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 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8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4AE3-12D9-4427-82AA-5D7DD380E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Ainol</cp:lastModifiedBy>
  <dcterms:modified xsi:type="dcterms:W3CDTF">2018-07-19T06:33:57Z</dcterms:modified>
  <cp:revision>139</cp:revision>
  <dc:subject/>
  <dc:title>PowerPoint Presentation</dc:title>
</cp:coreProperties>
</file>